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6564-A220-43CB-82CF-AB5FCB3B6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38C5-1889-41BC-895E-D90B44D9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12D4-0628-4292-917B-3977E6E0A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B3A6-C969-4F0E-9555-6984F1C7F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9E39-62EC-4FF5-A1B9-B0E57105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06E6-D15D-4C3D-9B11-602FE372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3C53-2A8A-4A33-9B98-34AEF55A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A28F-8FAF-45A9-BE15-C0C88FFF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9659-B8EE-4167-BBE3-45385775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7661-349C-4091-BA78-B4F8D927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67FB-D1DF-469A-86BA-A6A739C5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7BD2-4567-4C8A-BC75-161BDA23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89EC-1AB8-4FF2-9538-9F6E1F483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600"/>
            <a:ext cx="9144000" cy="67971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5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1. </a:t>
            </a: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Исусе драгоценни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за Теб копнея аз;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в грях окован, аз пъшкам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в тъма и леден мраз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Нуждая се от онзи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церителен поток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де Твойта кръв свещена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измива всек поро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4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97920"/>
            <a:ext cx="9147240" cy="68889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Bookman Old Style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2. </a:t>
            </a: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Исусе драгоценни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за Теб копнея аз;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окаян скитник викам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за помощ в този час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Нуждая се в съмнения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от Твоята любов -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да ми оправя пътя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и мен да е покров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1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8800"/>
            <a:ext cx="9147240" cy="67971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2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3. </a:t>
            </a: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Исусе драгоценни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за Теб копнея аз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Ела, живей в сърце ми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ще съм блажен тогаз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А после в вечна слава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в сияйни висоти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сърце ми ще възпява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величието Т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2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08:39:52Z</dcterms:created>
  <dc:creator>TrifonTrifonow</dc:creator>
  <dc:description/>
  <dc:language>en-US</dc:language>
  <cp:lastModifiedBy>TrifonTrifonow</cp:lastModifiedBy>
  <dcterms:modified xsi:type="dcterms:W3CDTF">2005-11-22T07:20:48Z</dcterms:modified>
  <cp:revision>6</cp:revision>
  <dc:subject/>
  <dc:title>Slide 1</dc:title>
</cp:coreProperties>
</file>